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2F442-93D4-475F-9F67-3DF1AB83F8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564AC-A65B-4A33-BB78-5A8AD84CAA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5338E-CD94-4583-8F86-5451D947BA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D79ED-51EA-4AE4-A7E7-91EB8E205E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2A00B-FFB4-4401-B139-54D383719F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E4D9A-3D6E-4956-8553-F46C8A1C07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ABB72-2153-4325-8EF9-0EF53EAAF3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686FE-28E5-43EE-8664-13533FF730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D67C3-98BD-4D4C-8F47-AD7179D7FD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5C62B-189C-4EAC-91A3-942DA1B711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1EDE2-D520-4DCA-B615-AD63A6F7EE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F079E-67D1-4643-B384-B578EC8554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2DF64-CF61-483F-AC27-DB1902E0BA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02FC6-5739-4487-863E-06AB8222EE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2E6D7-0F12-4BAA-9EA0-57FC5AEA9D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C35A5-8594-448C-9684-19064D3D05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5A20D-4C26-4B97-B254-FBB2BF958F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FF941-67B2-4600-AF03-79E4B132AC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E1859-B32D-4CEF-99B6-1C314C48E5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B3E3-52D8-4C01-9025-8F1A6E1EC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0317-6C9E-4D5A-8F3E-C0AB89CC8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4EBD-ED1F-4B78-B515-3D3B526CB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230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332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524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230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332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E81C-B702-47DB-BD4E-1F7C5F542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E15DF-CEAD-40E7-9428-D7B8FE507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EDB05-BA7B-455F-B2D5-39FC4C6C1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06EEC-0906-4096-8269-C9B25EEA8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A514B-28BA-42A7-BCC0-B986DBF8C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3018D-3520-48E9-9986-2ACF37E12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52480" y="30492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12DFE-D4AD-4DB7-AE83-FA55FF060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95ABE-07AE-4EB6-A1E2-5276491F9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6E69-0F9A-4738-9466-1AD55A28A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771EA-B7D5-4D95-9797-DAED6B5DA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50942-7DFB-47AE-A58F-8860CB590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FF764-91A0-4057-9B66-4670656BB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8907B-6D8E-4D79-A56F-F5835851F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1230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9332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7524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1230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9332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5194C-A9B0-45DD-BD8B-9A513391D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E428-2A94-498E-A667-2EF62B0E6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60F0-FD8A-40D9-8AF0-2D5853447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E845-1D4C-4A31-9CCE-761FE6274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52480" y="30492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E6B0-E5E2-419F-A6C5-1BAA00D88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AB53-AA23-4320-955B-6C3F2374E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B426-733B-4657-B7B6-173FE6ABD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CD91-BDBD-4C59-9C27-03CBA0200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316400" y="6400800"/>
            <a:ext cx="208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D95E9-7918-4D84-9C60-35D9F7C86C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4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DAB06-8B62-4624-9664-91881C12F9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mcdonalds.com/us/en/home.html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14320" y="1339560"/>
            <a:ext cx="7429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ahoma"/>
              </a:rPr>
              <a:t>Evaluating Design Prototypes</a:t>
            </a:r>
            <a:endParaRPr b="1" lang="en-US" sz="36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1" descr="monopoly fries.bmp"/>
          <p:cNvPicPr/>
          <p:nvPr/>
        </p:nvPicPr>
        <p:blipFill>
          <a:blip r:embed="rId1"/>
          <a:stretch/>
        </p:blipFill>
        <p:spPr>
          <a:xfrm>
            <a:off x="2390760" y="4062240"/>
            <a:ext cx="4114800" cy="25718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" descr="Monopoly guy.bmp"/>
          <p:cNvPicPr/>
          <p:nvPr/>
        </p:nvPicPr>
        <p:blipFill>
          <a:blip r:embed="rId2"/>
          <a:stretch/>
        </p:blipFill>
        <p:spPr>
          <a:xfrm>
            <a:off x="5029200" y="812880"/>
            <a:ext cx="4114800" cy="30416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52480" y="4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Tahoma"/>
              </a:rPr>
              <a:t>Choosing Our Design:</a:t>
            </a:r>
            <a:endParaRPr b="1" lang="en-US" sz="48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52480" y="2266560"/>
            <a:ext cx="701064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3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he class (or teams) will decide which design to manufacture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26920" y="690120"/>
            <a:ext cx="7010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Tahoma"/>
              </a:rPr>
              <a:t>Who Will Create a </a:t>
            </a:r>
            <a:br>
              <a:rPr sz="4800"/>
            </a:br>
            <a:r>
              <a:rPr b="1" lang="en-US" sz="4800" spc="-1" strike="noStrike">
                <a:solidFill>
                  <a:srgbClr val="006666"/>
                </a:solidFill>
                <a:latin typeface="Tahoma"/>
              </a:rPr>
              <a:t>Design?</a:t>
            </a:r>
            <a:endParaRPr b="1" lang="en-US" sz="48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52480" y="2266560"/>
            <a:ext cx="701064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Everyone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ne per team (existing, or  create teams)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artners?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726920" y="2532240"/>
            <a:ext cx="70102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Tahoma"/>
              </a:rPr>
              <a:t>Use the Design Process of Creating a Prototype to Teach/Use a Computer Program</a:t>
            </a:r>
            <a:endParaRPr b="1" lang="en-US" sz="4800" spc="-1" strike="noStrike">
              <a:solidFill>
                <a:srgbClr val="006666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14320" y="883800"/>
            <a:ext cx="7010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Tahoma"/>
              </a:rPr>
              <a:t>What Tool will be Used to Create the Design?</a:t>
            </a:r>
            <a:endParaRPr b="1" lang="en-US" sz="48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39520" y="2652480"/>
            <a:ext cx="701028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uxpai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Kidpi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ord / Publish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52480" y="4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Tahoma"/>
              </a:rPr>
              <a:t>Choosing Our Design:</a:t>
            </a:r>
            <a:endParaRPr b="1" lang="en-US" sz="48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752480" y="2266560"/>
            <a:ext cx="701064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3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he class (or teams) will decide which design to manufacture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752480" y="4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Tahoma"/>
              </a:rPr>
              <a:t>How Will We Choose?</a:t>
            </a:r>
            <a:endParaRPr b="1" lang="en-US" sz="48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752480" y="2266560"/>
            <a:ext cx="701064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3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Private vote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3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Raise of Hand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3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Ranking them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3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52480" y="471240"/>
            <a:ext cx="701064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Tahoma"/>
              </a:rPr>
              <a:t>Look at all the </a:t>
            </a:r>
            <a:br>
              <a:rPr sz="4800"/>
            </a:br>
            <a:r>
              <a:rPr b="1" lang="en-US" sz="4800" spc="-1" strike="noStrike">
                <a:solidFill>
                  <a:srgbClr val="006666"/>
                </a:solidFill>
                <a:latin typeface="Tahoma"/>
              </a:rPr>
              <a:t>Prototypes</a:t>
            </a:r>
            <a:endParaRPr b="1" lang="en-US" sz="48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52480" y="2266560"/>
            <a:ext cx="701064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3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Is it attractive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3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Is it Sturdy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3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Is it Easy to Make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3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3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66"/>
                </a:solidFill>
                <a:latin typeface="Tahoma"/>
              </a:rPr>
              <a:t>VP of Design </a:t>
            </a:r>
            <a:endParaRPr b="1" lang="en-US" sz="54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52480" y="2266560"/>
            <a:ext cx="701064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3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Is this the best we can do with this product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752480" y="304560"/>
            <a:ext cx="692784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Tahoma"/>
              </a:rPr>
              <a:t>VP of Manufacturing </a:t>
            </a:r>
            <a:endParaRPr b="1" lang="en-US" sz="48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52480" y="2266560"/>
            <a:ext cx="701064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3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an we make it easily and inexpensive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26920" y="690120"/>
            <a:ext cx="7010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Tahoma"/>
              </a:rPr>
              <a:t>Company Designs</a:t>
            </a:r>
            <a:endParaRPr b="1" lang="en-US" sz="48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752480" y="2266560"/>
            <a:ext cx="701064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Many companies use more than one logo. See the example from McDonald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M.bmp"/>
          <p:cNvPicPr/>
          <p:nvPr/>
        </p:nvPicPr>
        <p:blipFill>
          <a:blip r:embed="rId1"/>
          <a:stretch/>
        </p:blipFill>
        <p:spPr>
          <a:xfrm>
            <a:off x="6748560" y="5045040"/>
            <a:ext cx="1350720" cy="11844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752480" y="304560"/>
            <a:ext cx="692784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Tahoma"/>
              </a:rPr>
              <a:t>VP of Marketing </a:t>
            </a:r>
            <a:endParaRPr b="1" lang="en-US" sz="48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752480" y="2266560"/>
            <a:ext cx="701064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3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How are we going to advertise this?  Does it have special features?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52480" y="304560"/>
            <a:ext cx="692784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Tahoma"/>
              </a:rPr>
              <a:t>VP of Sales </a:t>
            </a:r>
            <a:endParaRPr b="1" lang="en-US" sz="48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752480" y="2266560"/>
            <a:ext cx="701064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3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an we sell this product, and for how much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52480" y="304560"/>
            <a:ext cx="692784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Tahoma"/>
              </a:rPr>
              <a:t> </a:t>
            </a:r>
            <a:r>
              <a:rPr b="1" lang="en-US" sz="4800" spc="-1" strike="noStrike">
                <a:solidFill>
                  <a:srgbClr val="006666"/>
                </a:solidFill>
                <a:latin typeface="Tahoma"/>
              </a:rPr>
              <a:t>VP of Finance </a:t>
            </a:r>
            <a:endParaRPr b="1" lang="en-US" sz="48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52480" y="2266560"/>
            <a:ext cx="701064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3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an we sell this product for a profit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52480" y="304560"/>
            <a:ext cx="692784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Tahoma"/>
              </a:rPr>
              <a:t> </a:t>
            </a:r>
            <a:r>
              <a:rPr b="1" lang="en-US" sz="4800" spc="-1" strike="noStrike">
                <a:solidFill>
                  <a:srgbClr val="006666"/>
                </a:solidFill>
                <a:latin typeface="Tahoma"/>
              </a:rPr>
              <a:t>President </a:t>
            </a:r>
            <a:endParaRPr b="1" lang="en-US" sz="48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752480" y="2266560"/>
            <a:ext cx="701064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3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Is everyone able to share their ideas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752480" y="304560"/>
            <a:ext cx="692784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Tahoma"/>
              </a:rPr>
              <a:t> </a:t>
            </a:r>
            <a:r>
              <a:rPr b="1" lang="en-US" sz="4800" spc="-1" strike="noStrike">
                <a:solidFill>
                  <a:srgbClr val="006666"/>
                </a:solidFill>
                <a:latin typeface="Tahoma"/>
              </a:rPr>
              <a:t>Only One Design?</a:t>
            </a:r>
            <a:endParaRPr b="1" lang="en-US" sz="48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752480" y="2266560"/>
            <a:ext cx="701064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3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Do we limit it to one design, or allow more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66"/>
                </a:solidFill>
                <a:latin typeface="Tahoma"/>
              </a:rPr>
              <a:t>How and When</a:t>
            </a:r>
            <a:endParaRPr b="1" lang="en-US" sz="54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752480" y="2382480"/>
            <a:ext cx="7010640" cy="358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3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How is the design refined and finished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726920" y="690120"/>
            <a:ext cx="7010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Tahoma"/>
              </a:rPr>
              <a:t>Bibliography</a:t>
            </a:r>
            <a:endParaRPr b="1" lang="en-US" sz="48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752480" y="2266560"/>
            <a:ext cx="701064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mcdonalds.com/us/en/home.htm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3" descr="M.bmp"/>
          <p:cNvPicPr/>
          <p:nvPr/>
        </p:nvPicPr>
        <p:blipFill>
          <a:blip r:embed="rId2"/>
          <a:stretch/>
        </p:blipFill>
        <p:spPr>
          <a:xfrm>
            <a:off x="4633920" y="5116680"/>
            <a:ext cx="1444680" cy="12664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1" descr="monopoly is back.bmp"/>
          <p:cNvPicPr/>
          <p:nvPr/>
        </p:nvPicPr>
        <p:blipFill>
          <a:blip r:embed="rId1"/>
          <a:srcRect l="0" t="541" r="35309" b="6778"/>
          <a:stretch/>
        </p:blipFill>
        <p:spPr>
          <a:xfrm>
            <a:off x="2616120" y="1403280"/>
            <a:ext cx="5227560" cy="46814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1" descr="bigmac.bmp"/>
          <p:cNvPicPr/>
          <p:nvPr/>
        </p:nvPicPr>
        <p:blipFill>
          <a:blip r:embed="rId1"/>
          <a:srcRect l="0" t="0" r="50751" b="22087"/>
          <a:stretch/>
        </p:blipFill>
        <p:spPr>
          <a:xfrm>
            <a:off x="1965240" y="533520"/>
            <a:ext cx="3291120" cy="32526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burger.bmp"/>
          <p:cNvPicPr/>
          <p:nvPr/>
        </p:nvPicPr>
        <p:blipFill>
          <a:blip r:embed="rId2"/>
          <a:srcRect l="0" t="0" r="50521" b="26094"/>
          <a:stretch/>
        </p:blipFill>
        <p:spPr>
          <a:xfrm>
            <a:off x="5318280" y="3405240"/>
            <a:ext cx="3349440" cy="31273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1" descr="dice.bmp"/>
          <p:cNvPicPr/>
          <p:nvPr/>
        </p:nvPicPr>
        <p:blipFill>
          <a:blip r:embed="rId1"/>
          <a:srcRect l="0" t="0" r="81743" b="72369"/>
          <a:stretch/>
        </p:blipFill>
        <p:spPr>
          <a:xfrm>
            <a:off x="2583000" y="262080"/>
            <a:ext cx="3019320" cy="28526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dip.bmp"/>
          <p:cNvPicPr/>
          <p:nvPr/>
        </p:nvPicPr>
        <p:blipFill>
          <a:blip r:embed="rId2"/>
          <a:srcRect l="0" t="0" r="50521" b="49134"/>
          <a:stretch/>
        </p:blipFill>
        <p:spPr>
          <a:xfrm>
            <a:off x="3900600" y="3778200"/>
            <a:ext cx="3941640" cy="25336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1" descr="hashbrowns.bmp"/>
          <p:cNvPicPr/>
          <p:nvPr/>
        </p:nvPicPr>
        <p:blipFill>
          <a:blip r:embed="rId1"/>
          <a:srcRect l="0" t="0" r="66085" b="12560"/>
          <a:stretch/>
        </p:blipFill>
        <p:spPr>
          <a:xfrm>
            <a:off x="2274840" y="485640"/>
            <a:ext cx="2825640" cy="45514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" descr="M.bmp"/>
          <p:cNvPicPr/>
          <p:nvPr/>
        </p:nvPicPr>
        <p:blipFill>
          <a:blip r:embed="rId2"/>
          <a:stretch/>
        </p:blipFill>
        <p:spPr>
          <a:xfrm>
            <a:off x="5267160" y="3397320"/>
            <a:ext cx="3534120" cy="30956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1" descr="man and ford.bmp"/>
          <p:cNvPicPr/>
          <p:nvPr/>
        </p:nvPicPr>
        <p:blipFill>
          <a:blip r:embed="rId1"/>
          <a:stretch/>
        </p:blipFill>
        <p:spPr>
          <a:xfrm>
            <a:off x="2211480" y="2712960"/>
            <a:ext cx="4114800" cy="3724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" descr="man and money.bmp"/>
          <p:cNvPicPr/>
          <p:nvPr/>
        </p:nvPicPr>
        <p:blipFill>
          <a:blip r:embed="rId2"/>
          <a:srcRect l="0" t="0" r="28177" b="12560"/>
          <a:stretch/>
        </p:blipFill>
        <p:spPr>
          <a:xfrm>
            <a:off x="5427720" y="506520"/>
            <a:ext cx="2955960" cy="22492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1" descr="man walmart.bmp"/>
          <p:cNvPicPr/>
          <p:nvPr/>
        </p:nvPicPr>
        <p:blipFill>
          <a:blip r:embed="rId1"/>
          <a:stretch/>
        </p:blipFill>
        <p:spPr>
          <a:xfrm>
            <a:off x="2287440" y="3292560"/>
            <a:ext cx="4114800" cy="3079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McDon guy 2.bmp"/>
          <p:cNvPicPr/>
          <p:nvPr/>
        </p:nvPicPr>
        <p:blipFill>
          <a:blip r:embed="rId2"/>
          <a:srcRect l="0" t="0" r="68047" b="34604"/>
          <a:stretch/>
        </p:blipFill>
        <p:spPr>
          <a:xfrm>
            <a:off x="5613480" y="236520"/>
            <a:ext cx="2462040" cy="31482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1" descr="monopoloy guy.bmp"/>
          <p:cNvPicPr/>
          <p:nvPr/>
        </p:nvPicPr>
        <p:blipFill>
          <a:blip r:embed="rId1"/>
          <a:srcRect l="0" t="0" r="68900" b="53140"/>
          <a:stretch/>
        </p:blipFill>
        <p:spPr>
          <a:xfrm>
            <a:off x="5403960" y="3095640"/>
            <a:ext cx="3468600" cy="3267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monopoly coke.bmp"/>
          <p:cNvPicPr/>
          <p:nvPr/>
        </p:nvPicPr>
        <p:blipFill>
          <a:blip r:embed="rId2"/>
          <a:srcRect l="0" t="0" r="64285" b="541"/>
          <a:stretch/>
        </p:blipFill>
        <p:spPr>
          <a:xfrm>
            <a:off x="2406600" y="495360"/>
            <a:ext cx="2551320" cy="44384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8T02:20:04Z</dcterms:created>
  <dc:creator> </dc:creator>
  <dc:description/>
  <cp:keywords/>
  <dc:language>en-US</dc:language>
  <cp:lastModifiedBy> </cp:lastModifiedBy>
  <dcterms:modified xsi:type="dcterms:W3CDTF">2010-10-22T16:37:50Z</dcterms:modified>
  <cp:revision>14</cp:revision>
  <dc:subject/>
  <dc:title>Evaluating Design Prototyp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114614103</vt:r8>
  </property>
  <property fmtid="{D5CDD505-2E9C-101B-9397-08002B2CF9AE}" pid="3" name="_AuthorEmail">
    <vt:lpwstr>tloosle@graniteschools.org</vt:lpwstr>
  </property>
  <property fmtid="{D5CDD505-2E9C-101B-9397-08002B2CF9AE}" pid="4" name="_AuthorEmailDisplayName">
    <vt:lpwstr>Loosle, Tamara</vt:lpwstr>
  </property>
  <property fmtid="{D5CDD505-2E9C-101B-9397-08002B2CF9AE}" pid="5" name="_EmailSubject">
    <vt:lpwstr>Resources for Wiki</vt:lpwstr>
  </property>
  <property fmtid="{D5CDD505-2E9C-101B-9397-08002B2CF9AE}" pid="6" name="_NewReviewCycle">
    <vt:lpwstr/>
  </property>
  <property fmtid="{D5CDD505-2E9C-101B-9397-08002B2CF9AE}" pid="7" name="_TemplateID">
    <vt:lpwstr>TC011589511033</vt:lpwstr>
  </property>
</Properties>
</file>